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F2F39-B151-4773-88CF-6F1805A5A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5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555C7-E171-419A-9940-AD79036A5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2E631-CEC1-467A-986D-B96437337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5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92DD9-8AC5-436E-BCC3-F37A6D841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6C1F0-6156-40CA-BAB3-25B2D53CA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2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0BFA1-F781-4E0A-BF20-94C3D35DC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29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FB709-6921-47B6-8344-7DA1B5F34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29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7FB57-452A-40D1-8989-D3FDD9F02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99F0C-E9D0-4A6A-8AD5-E332AC9ED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1599840"/>
            <a:ext cx="7772400" cy="914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46591-FB92-49EA-ACE5-269ED34AE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0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5240D-7960-41EB-8A59-91B41BE35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161F4-D48B-4E88-B41B-BB8C1C529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0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7C775-3D16-4E10-B7F0-F3FD389E6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A7EF4-6E4A-4CB4-BAFB-5664948F5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1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2B761-E055-4A47-A169-38777C5A9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6010A-6829-4ACD-A7ED-2977D997A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2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D1DB9-B6B4-49DF-857C-DEB4E4A44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3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7D4CC-53EE-4636-B3BE-34A2C3D47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EDB14-418D-428B-8540-F433BDE6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5C240-AD3B-4457-936F-F1772158C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1599840"/>
            <a:ext cx="7772400" cy="914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69300-EEF3-4BAC-AE20-148421F16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175A-4FB8-4396-B435-F8A35FDF8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4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D56E9-62A4-4B87-90BC-08170337D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4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74424-3882-4BF6-9947-5880BF663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81DB-9E06-446D-9D39-36A9DB145099}"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7D1D-803A-47F3-AEDF-2AD84697901E}"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arm-Up Sentences</a:t>
            </a:r>
            <a:endParaRPr b="0" lang="en-US" sz="4400" spc="-1" strike="noStrike">
              <a:solidFill>
                <a:srgbClr val="c4c3aa"/>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me believe that dragonflys exist 270,000,000 years ago, long before Dinosaurs walked the face of the earth.</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883, a volcanic eruption on the iland of Krakatoa in Indonesia scent sulfuric scid into the atmosphere.  Resulting in a worldwide cold spell that lasted several week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Journal #69</a:t>
            </a:r>
            <a:endParaRPr b="0" lang="en-US" sz="5100" spc="-1" strike="noStrike">
              <a:solidFill>
                <a:srgbClr val="c4c3aa"/>
              </a:solidFill>
              <a:latin typeface="Arial"/>
            </a:endParaRPr>
          </a:p>
        </p:txBody>
      </p:sp>
      <p:sp>
        <p:nvSpPr>
          <p:cNvPr id="333" name="PlaceHolder 2"/>
          <p:cNvSpPr>
            <a:spLocks noGrp="1"/>
          </p:cNvSpPr>
          <p:nvPr>
            <p:ph type="subTitle"/>
          </p:nvPr>
        </p:nvSpPr>
        <p:spPr>
          <a:xfrm>
            <a:off x="121932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about your favorite vaca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arm-Up Sentences</a:t>
            </a: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ster-than-average growth are expected in the field of building maintainence.  Due to the high turnover rate in this profession and the increasing number of offices, apartments nursing homes and other building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elgeuse one of the brightest stars in the sky could become a nova anytime in the next 10,000 years and strips the ozone layer from the earth in a instan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Journal #70</a:t>
            </a:r>
            <a:endParaRPr b="0" lang="en-US" sz="5100" spc="-1" strike="noStrike">
              <a:solidFill>
                <a:srgbClr val="c4c3aa"/>
              </a:solidFill>
              <a:latin typeface="Arial"/>
            </a:endParaRPr>
          </a:p>
        </p:txBody>
      </p:sp>
      <p:sp>
        <p:nvSpPr>
          <p:cNvPr id="337" name="PlaceHolder 2"/>
          <p:cNvSpPr>
            <a:spLocks noGrp="1"/>
          </p:cNvSpPr>
          <p:nvPr>
            <p:ph type="subTitle"/>
          </p:nvPr>
        </p:nvSpPr>
        <p:spPr>
          <a:xfrm>
            <a:off x="129528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I had 3 wishes I woul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Friday Warm-up</a:t>
            </a:r>
            <a:endParaRPr b="0" lang="en-US" sz="5100" spc="-1" strike="noStrike">
              <a:solidFill>
                <a:srgbClr val="c4c3aa"/>
              </a:solidFill>
              <a:latin typeface="Arial"/>
            </a:endParaRPr>
          </a:p>
        </p:txBody>
      </p:sp>
      <p:sp>
        <p:nvSpPr>
          <p:cNvPr id="339" name="PlaceHolder 2"/>
          <p:cNvSpPr>
            <a:spLocks noGrp="1"/>
          </p:cNvSpPr>
          <p:nvPr>
            <p:ph type="subTitle"/>
          </p:nvPr>
        </p:nvSpPr>
        <p:spPr>
          <a:xfrm>
            <a:off x="152280" y="2209320"/>
            <a:ext cx="87631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next five minutes, see how many words you can come up with that contain some of all of the letters in the word </a:t>
            </a:r>
            <a:r>
              <a:rPr b="1" lang="en-US" sz="2800" spc="-1" strike="noStrike">
                <a:solidFill>
                  <a:srgbClr val="ffffff"/>
                </a:solidFill>
                <a:latin typeface="Verdana"/>
              </a:rPr>
              <a:t>alphabet</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23:33Z</dcterms:created>
  <dc:creator>tpagel</dc:creator>
  <dc:description/>
  <dc:language>en-US</dc:language>
  <cp:lastModifiedBy>tpagel</cp:lastModifiedBy>
  <dcterms:modified xsi:type="dcterms:W3CDTF">2010-06-03T18:24:24Z</dcterms:modified>
  <cp:revision>1</cp:revision>
  <dc:subject/>
  <dc:title>Warm-Up Sentences</dc:title>
</cp:coreProperties>
</file>